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57F-B45A-46EB-A4BB-DAF5C6B7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A0A-C24C-4DAA-82BB-85A1A567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546D-A088-41DB-A97E-3D89E48C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1EB-4267-44E1-9F97-F22B29B7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EB7-604D-4B23-B80B-BCE92C42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86D-A0F6-4B26-B4DB-6B366923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BD72-4BF4-491A-AE12-37BF2E6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3AA-D710-491F-B87E-122B33BE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38D-C395-4F81-A39F-76D80CCA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AE4-D34D-451E-9A66-D69F32AB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D74-F759-4C9E-92C6-D616C24B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EBD-C230-492B-8CAB-D0472436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476B-0CE7-49C3-9640-8AA84FAFD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5257800"/>
            <a:ext cx="3276720" cy="685800"/>
          </a:xfrm>
          <a:prstGeom prst="rect">
            <a:avLst/>
          </a:prstGeom>
          <a:solidFill>
            <a:srgbClr val="063a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ar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5257800"/>
            <a:ext cx="3657600" cy="685800"/>
          </a:xfrm>
          <a:prstGeom prst="rect">
            <a:avLst/>
          </a:prstGeom>
          <a:solidFill>
            <a:srgbClr val="0177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nd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33920" y="533520"/>
            <a:ext cx="5562360" cy="685800"/>
          </a:xfrm>
          <a:prstGeom prst="rect">
            <a:avLst/>
          </a:prstGeom>
          <a:solidFill>
            <a:srgbClr val="87254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ing road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5257800"/>
            <a:ext cx="2819520" cy="685800"/>
          </a:xfrm>
          <a:prstGeom prst="rect">
            <a:avLst/>
          </a:prstGeom>
          <a:solidFill>
            <a:srgbClr val="ca1e2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76320" y="457200"/>
            <a:ext cx="2286000" cy="685800"/>
          </a:xfrm>
          <a:prstGeom prst="rect">
            <a:avLst/>
          </a:prstGeom>
          <a:solidFill>
            <a:srgbClr val="891e3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76320" y="990720"/>
            <a:ext cx="4953240" cy="685800"/>
          </a:xfrm>
          <a:prstGeom prst="rect">
            <a:avLst/>
          </a:prstGeom>
          <a:solidFill>
            <a:srgbClr val="d62e2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ippery when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8520" y="5257800"/>
            <a:ext cx="2971800" cy="685800"/>
          </a:xfrm>
          <a:prstGeom prst="rect">
            <a:avLst/>
          </a:prstGeom>
          <a:solidFill>
            <a:srgbClr val="a2101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ve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76320" y="533520"/>
            <a:ext cx="3276720" cy="685800"/>
          </a:xfrm>
          <a:prstGeom prst="rect">
            <a:avLst/>
          </a:prstGeom>
          <a:solidFill>
            <a:srgbClr val="b83d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 left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8:45:21Z</dcterms:created>
  <dc:creator>Brent Hautle</dc:creator>
  <dc:description/>
  <dc:language>en-US</dc:language>
  <cp:lastModifiedBy>Brent Hautle</cp:lastModifiedBy>
  <dcterms:modified xsi:type="dcterms:W3CDTF">2007-04-20T09:28:13Z</dcterms:modified>
  <cp:revision>5</cp:revision>
  <dc:subject/>
  <dc:title>PowerPoint Presentation</dc:title>
</cp:coreProperties>
</file>