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EE7-87DA-4B52-B641-78806BEB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78E-E47D-4CE3-82FA-CDA60A58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77E-6EA3-428D-848B-24EEE779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F58-6518-493B-958E-623CAF2D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84F-0771-4D85-9645-A1E725E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7EB-678B-48D1-9E16-EA62ED81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A0F4-8798-4E0D-BA87-77CE43B4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810-BA9B-4662-93E0-E019BF95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49E-411E-47B2-9D5B-B32E4D8F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DD9-9FE2-440B-8AD8-7C92F4E5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F82B-3AB5-4979-BB09-3D24DDBE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1A5-56C7-43FB-8C17-B98C0771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1CC1-B1A8-42A9-B593-C7092746A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457200"/>
            <a:ext cx="4724280" cy="685800"/>
          </a:xfrm>
          <a:prstGeom prst="rect">
            <a:avLst/>
          </a:prstGeom>
          <a:solidFill>
            <a:srgbClr val="6a919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rooklyn Bridge,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2280" y="5562720"/>
            <a:ext cx="4724280" cy="685800"/>
          </a:xfrm>
          <a:prstGeom prst="rect">
            <a:avLst/>
          </a:prstGeom>
          <a:solidFill>
            <a:srgbClr val="637dc4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illau Bridge,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609480"/>
            <a:ext cx="5410080" cy="685800"/>
          </a:xfrm>
          <a:prstGeom prst="rect">
            <a:avLst/>
          </a:prstGeom>
          <a:solidFill>
            <a:srgbClr val="713711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Golden Gate Bridge,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76320" y="457200"/>
            <a:ext cx="4724640" cy="685800"/>
          </a:xfrm>
          <a:prstGeom prst="rect">
            <a:avLst/>
          </a:prstGeom>
          <a:solidFill>
            <a:srgbClr val="1d324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ower Bridge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806" t="-301" r="3088" b="1608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76320" y="1066680"/>
            <a:ext cx="6019920" cy="685800"/>
          </a:xfrm>
          <a:prstGeom prst="rect">
            <a:avLst/>
          </a:prstGeom>
          <a:solidFill>
            <a:srgbClr val="536f7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nfederation Bridge,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588" t="1022" r="7728" b="6254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76320" y="762120"/>
            <a:ext cx="5562720" cy="685800"/>
          </a:xfrm>
          <a:prstGeom prst="rect">
            <a:avLst/>
          </a:prstGeom>
          <a:solidFill>
            <a:srgbClr val="86554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hapel Bridge, Switz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7:58:28Z</dcterms:created>
  <dc:creator>Brent Hautle</dc:creator>
  <dc:description/>
  <dc:language>en-US</dc:language>
  <cp:lastModifiedBy>Brent Hautle</cp:lastModifiedBy>
  <dcterms:modified xsi:type="dcterms:W3CDTF">2007-04-16T13:27:05Z</dcterms:modified>
  <cp:revision>5</cp:revision>
  <dc:subject/>
  <dc:title>PowerPoint Presentation</dc:title>
</cp:coreProperties>
</file>